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5F5D-8E8B-4E5A-B617-AD77ECFC7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C8D4-15DA-4EB0-B04A-13087D3E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0D78-DA4C-4918-BB14-5AD0FABC9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2DE2-33CB-424A-8981-D93D0E8D9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6079-99F3-4EBF-A707-32F9B764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DFD9-87B4-4E4E-B611-E2295AD7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E829-A5CD-4C6C-A542-A59F376B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A027-C456-4A1F-8446-B984B28F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B255-3AC4-48C4-A86A-27C98DE6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3D2B-0BD4-44F3-B24F-FCF8559C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1310-8EBB-4191-96F4-6E54CFC0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69D2-4A1D-4EC3-B0E0-43019385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2D5C-4387-4CC1-917B-5EA872476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Основные законодательные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и иные нормативные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доку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удовой кодекс РФ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декс РФ об административных правонарушени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логовый кодекс РФ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ажданский кодекс РФ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едеральный закон «Об обязательном социальном страховании от несчастных случаев на производстве и профессиональных заболеваний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едеральный закон «Об отдельных вопросах исчисления и выплаты пособий по временной     нетрудоспособности, по беременнос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едеральный закон «О лечении застрахованных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т. 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238880" y="457200"/>
            <a:ext cx="1476360" cy="1282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rot="5400000">
            <a:off x="8322120" y="600300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7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90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2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2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70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2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Состав  комиссии  для  расследования  лёгкого  несчастного  случая  на  производств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специалист  по  охране  тру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представители   работодател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представители  профсоюзного  орга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Комиссию  возглавляет  работодат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или уполномоченный  им представител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391520" y="914400"/>
            <a:ext cx="1476360" cy="12826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 rot="5400000">
            <a:off x="8322120" y="600300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000"/>
                            </p:stCondLst>
                            <p:childTnLst>
                              <p:par>
                                <p:cTn id="42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0"/>
                            </p:stCondLst>
                            <p:childTnLst>
                              <p:par>
                                <p:cTn id="42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7000"/>
                            </p:stCondLst>
                            <p:childTnLst>
                              <p:par>
                                <p:cTn id="43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4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4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Состав комиссии по  расследованию </a:t>
            </a:r>
            <a:br>
              <a:rPr sz="2400"/>
            </a:b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 группового  несчастного  случая,</a:t>
            </a:r>
            <a:br>
              <a:rPr sz="2400"/>
            </a:b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  тяжёлого  несчастного  случая,  несчастного  случая  со  смертельным  исхо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специалист по  охране  тру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2)    представители  работодател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представители профсоюзного  орга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государственный  инспектор  по  охране  тру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представители  органа  исполнительной  власти  Российской  Федерации  или  органа  местного  самоуправ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представитель  территориального  объединения  организаций  профессиональных  союз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представители  исполнительных  органов  страховщ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704000" y="-14400"/>
            <a:ext cx="1476360" cy="1282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 rot="5400000">
            <a:off x="8398440" y="600300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000"/>
                            </p:stCondLst>
                            <p:childTnLst>
                              <p:par>
                                <p:cTn id="48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7400"/>
                            </p:stCondLst>
                            <p:childTnLst>
                              <p:par>
                                <p:cTn id="4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5600"/>
                            </p:stCondLst>
                            <p:childTnLst>
                              <p:par>
                                <p:cTn id="50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35000"/>
                            </p:stCondLst>
                            <p:childTnLst>
                              <p:par>
                                <p:cTn id="5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4800"/>
                            </p:stCondLst>
                            <p:childTnLst>
                              <p:par>
                                <p:cTn id="5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71400"/>
                            </p:stCondLst>
                            <p:childTnLst>
                              <p:par>
                                <p:cTn id="5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Порядок расследования </a:t>
            </a:r>
            <a:br>
              <a:rPr sz="3200"/>
            </a:b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несчастного случая на </a:t>
            </a:r>
            <a:br>
              <a:rPr sz="3200"/>
            </a:b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производст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производит  осмотр места  происшеств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выявляет  очевидцев  несчастного  случая  и  должностных  лиц,  чьи  объяснения  могут  быть  необходи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опрашивает  очевидцев  несчастного  случая  и  должностных  лиц,  чьи  объяснения  могут  быть  необходи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знакомится  с  действующим  в  организации  локальными  нормативными  актам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получает  от  работодателя иную  необходимую  информац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получает по  возможности,  объяснения   от  пострадавшего  по  существу  происше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238880" y="228600"/>
            <a:ext cx="1476360" cy="12826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rot="5400000">
            <a:off x="8398440" y="607932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5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5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7000"/>
                            </p:stCondLst>
                            <p:childTnLst>
                              <p:par>
                                <p:cTn id="56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9000"/>
                            </p:stCondLst>
                            <p:childTnLst>
                              <p:par>
                                <p:cTn id="57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1000"/>
                            </p:stCondLst>
                            <p:childTnLst>
                              <p:par>
                                <p:cTn id="58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3000"/>
                            </p:stCondLst>
                            <p:childTnLst>
                              <p:par>
                                <p:cTn id="58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Arial"/>
              </a:rPr>
              <a:t>Порядок  возмещения  вреда  при  профессиональном заболев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Обеспечение  по  страхованию  осуществляется  в  вид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- пособия  по  временной  нетрудоспособност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- единовременной  страховой  выплат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застрахованному  либо  лицам,  имеющим  право  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получение  такой    выплаты  в  случае  его  смерт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- ежемесячных  страховых  выплат  застрахованном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либо  лицам,  имеющим  право  на  получение  таки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выплат  в  случае  его  смерт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- оплаты  дополнительных  расходов,  связанных   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повреждением  здоровья  застрахованного,  на  е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медицинскую, социальную  и  профессиональную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реабилитацию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704000" y="-14400"/>
            <a:ext cx="1476360" cy="12826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rot="5400000">
            <a:off x="8322120" y="600300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0"/>
                            </p:stCondLst>
                            <p:childTnLst>
                              <p:par>
                                <p:cTn id="61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7000"/>
                            </p:stCondLst>
                            <p:childTnLst>
                              <p:par>
                                <p:cTn id="62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9000"/>
                            </p:stCondLst>
                            <p:childTnLst>
                              <p:par>
                                <p:cTn id="62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63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3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5000"/>
                            </p:stCondLst>
                            <p:childTnLst>
                              <p:par>
                                <p:cTn id="64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2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7000"/>
                            </p:stCondLst>
                            <p:childTnLst>
                              <p:par>
                                <p:cTn id="65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19000"/>
                            </p:stCondLst>
                            <p:childTnLst>
                              <p:par>
                                <p:cTn id="65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2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2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21000"/>
                            </p:stCondLst>
                            <p:childTnLst>
                              <p:par>
                                <p:cTn id="6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23000"/>
                            </p:stCondLst>
                            <p:childTnLst>
                              <p:par>
                                <p:cTn id="6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5000"/>
                            </p:stCondLst>
                            <p:childTnLst>
                              <p:par>
                                <p:cTn id="67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ff"/>
                </a:solidFill>
                <a:latin typeface="Arial"/>
              </a:rPr>
              <a:t>Оказание первой </a:t>
            </a:r>
            <a:br>
              <a:rPr sz="3600"/>
            </a:br>
            <a:r>
              <a:rPr b="1" lang="en-US" sz="3600" spc="-1" strike="noStrike">
                <a:solidFill>
                  <a:srgbClr val="99ccff"/>
                </a:solidFill>
                <a:latin typeface="Arial"/>
              </a:rPr>
              <a:t>доврачебной помощ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Первая помощь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это комплекс срочных простейш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мероприятий, проводимых на месте происшествия сам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пострадавшим или другим лицом, находящимся поблизости, д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спасения жизни человека и предупреждение осложнений п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несчастных случаях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Первая помощь предусматрив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немедленное прекращение действия внешних повреждающих фактор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ликвидацию угрозы для жизни пострадавшего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предупреждение осложн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поддержание жизне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Задача первой помощи сводится, прежде всего, 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предупреждение опасных последствий травм, борьба с боль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кровотечением, инфекцией и шо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238880" y="228600"/>
            <a:ext cx="1476360" cy="1282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rot="5400000">
            <a:off x="8322120" y="600300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000"/>
                            </p:stCondLst>
                            <p:childTnLst>
                              <p:par>
                                <p:cTn id="68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3000"/>
                            </p:stCondLst>
                            <p:childTnLst>
                              <p:par>
                                <p:cTn id="6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000"/>
                            </p:stCondLst>
                            <p:childTnLst>
                              <p:par>
                                <p:cTn id="7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7000"/>
                            </p:stCondLst>
                            <p:childTnLst>
                              <p:par>
                                <p:cTn id="7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9000"/>
                            </p:stCondLst>
                            <p:childTnLst>
                              <p:par>
                                <p:cTn id="7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7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2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3000"/>
                            </p:stCondLst>
                            <p:childTnLst>
                              <p:par>
                                <p:cTn id="72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2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2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20400"/>
                            </p:stCondLst>
                            <p:childTnLst>
                              <p:par>
                                <p:cTn id="7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2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22400"/>
                            </p:stCondLst>
                            <p:childTnLst>
                              <p:par>
                                <p:cTn id="7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2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24400"/>
                            </p:stCondLst>
                            <p:childTnLst>
                              <p:par>
                                <p:cTn id="7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20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26400"/>
                            </p:stCondLst>
                            <p:childTnLst>
                              <p:par>
                                <p:cTn id="7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20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28400"/>
                            </p:stCondLst>
                            <p:childTnLst>
                              <p:par>
                                <p:cTn id="7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20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30400"/>
                            </p:stCondLst>
                            <p:childTnLst>
                              <p:par>
                                <p:cTn id="7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2000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32400"/>
                            </p:stCondLst>
                            <p:childTnLst>
                              <p:par>
                                <p:cTn id="7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2000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Arial"/>
              </a:rPr>
              <a:t>Обязанности работодателя по проведению медицинских </a:t>
            </a:r>
            <a:br>
              <a:rPr sz="3200"/>
            </a:br>
            <a:r>
              <a:rPr b="1" lang="ru-RU" sz="3200" spc="-1" strike="noStrike">
                <a:solidFill>
                  <a:srgbClr val="339933"/>
                </a:solidFill>
                <a:latin typeface="Arial"/>
              </a:rPr>
              <a:t>осмот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организовывать проведение за сч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собственных средств обязатель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предварительных (при поступлении на работ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и периодических (в течение трудо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деятельности) медицинских осмотр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не допускать работников к исполнению и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трудовых обязанностей без прохо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обязательных медицинских осмотров, а также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случае медицинских противопоказ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476360" cy="1282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rot="5400000">
            <a:off x="8246160" y="607932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3000"/>
                            </p:stCondLst>
                            <p:childTnLst>
                              <p:par>
                                <p:cTn id="7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0"/>
                            </p:stCondLst>
                            <p:childTnLst>
                              <p:par>
                                <p:cTn id="7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7000"/>
                            </p:stCondLst>
                            <p:childTnLst>
                              <p:par>
                                <p:cTn id="8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9000"/>
                            </p:stCondLst>
                            <p:childTnLst>
                              <p:par>
                                <p:cTn id="8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2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2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13000"/>
                            </p:stCondLst>
                            <p:childTnLst>
                              <p:par>
                                <p:cTn id="8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2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5000"/>
                            </p:stCondLst>
                            <p:childTnLst>
                              <p:par>
                                <p:cTn id="8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2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2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2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17000"/>
                            </p:stCondLst>
                            <p:childTnLst>
                              <p:par>
                                <p:cTn id="8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2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2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2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9000"/>
                            </p:stCondLst>
                            <p:childTnLst>
                              <p:par>
                                <p:cTn id="8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20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2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2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be0e3"/>
                </a:solidFill>
                <a:latin typeface="Arial"/>
              </a:rPr>
              <a:t>Вредные и опасные факторы рабочей(производственной) </a:t>
            </a:r>
            <a:br>
              <a:rPr sz="3200"/>
            </a:br>
            <a:r>
              <a:rPr b="1" lang="ru-RU" sz="3200" spc="-1" strike="noStrike">
                <a:solidFill>
                  <a:srgbClr val="bbe0e3"/>
                </a:solidFill>
                <a:latin typeface="Arial"/>
              </a:rPr>
              <a:t>сред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Вредный производственный фактор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производственный фактор, воздействие которого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работающего в определённых условиях мож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привести к заболеванию, снижению работоспособ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и (или) отрицательному влиянию на здоров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потом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Опасный производственный фактор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производственный фактор, воздействие которого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работающего в определенный условиях приводит 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травме, острому отравлению или другому внезапн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резкому ухудшению здоровья, или смерти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704000" y="-14400"/>
            <a:ext cx="1476360" cy="12826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rot="5400000">
            <a:off x="8246160" y="607932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000"/>
                            </p:stCondLst>
                            <p:childTnLst>
                              <p:par>
                                <p:cTn id="85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4500"/>
                            </p:stCondLst>
                            <p:childTnLst>
                              <p:par>
                                <p:cTn id="85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22300"/>
                            </p:stCondLst>
                            <p:childTnLst>
                              <p:par>
                                <p:cTn id="86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8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32900"/>
                            </p:stCondLst>
                            <p:childTnLst>
                              <p:par>
                                <p:cTn id="87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42100"/>
                            </p:stCondLst>
                            <p:childTnLst>
                              <p:par>
                                <p:cTn id="87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53100"/>
                            </p:stCondLst>
                            <p:childTnLst>
                              <p:par>
                                <p:cTn id="88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6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62300"/>
                            </p:stCondLst>
                            <p:childTnLst>
                              <p:par>
                                <p:cTn id="88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2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2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2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66100"/>
                            </p:stCondLst>
                            <p:childTnLst>
                              <p:par>
                                <p:cTn id="89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2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2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2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73900"/>
                            </p:stCondLst>
                            <p:childTnLst>
                              <p:par>
                                <p:cTn id="90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2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2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2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84500"/>
                            </p:stCondLst>
                            <p:childTnLst>
                              <p:par>
                                <p:cTn id="90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20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2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2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94500"/>
                            </p:stCondLst>
                            <p:childTnLst>
                              <p:par>
                                <p:cTn id="91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20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20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20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105100"/>
                            </p:stCondLst>
                            <p:childTnLst>
                              <p:par>
                                <p:cTn id="91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20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20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20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Вредные и (или) опасные производственные факторы делятся на следующие группы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химические факторы (аллергены, канцерогены, опасные при воздействии на репродуктивную функцию, аэрозоли преимущественно фиброгенного и смешанного типа действий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2. физиологические факторы (белково-витаминные препараты, кормовые дрожжи, комбикорма, биостимуляторы, инфицированный материал, биологические токсин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3. физические факто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4. факторы трудового процесса (физические перегрузки, зрительно напряженные работы, работы с ПЭВМ, перенапряжение голосового аппарат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704000" y="-14400"/>
            <a:ext cx="1476360" cy="12826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rot="5400000">
            <a:off x="8322120" y="600300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3000"/>
                            </p:stCondLst>
                            <p:childTnLst>
                              <p:par>
                                <p:cTn id="9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9600"/>
                            </p:stCondLst>
                            <p:childTnLst>
                              <p:par>
                                <p:cTn id="9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35400"/>
                            </p:stCondLst>
                            <p:childTnLst>
                              <p:par>
                                <p:cTn id="9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39300"/>
                            </p:stCondLst>
                            <p:childTnLst>
                              <p:par>
                                <p:cTn id="9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2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2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2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Порядок проведения медицинских осмотро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Предварительные медицинские осмотры при поступлении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работу проводятся с целью определения соответствия состоя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здоровья работника поручаемой ему работе (ст. 213 ТК РФ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Периодические медицинские осмотры (обследова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проводятся с целью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динамического наблюдения за состоянием здоровь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выявления общих заболеваний, являющихся медицинскими противопоказани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своевременного проведения профилактических и реабилитационных мероприя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Частота проведения периодических медицинских осмо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определяется территориальными органами Федеральной служ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по надзору в сфере защиты прав потреб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476360" cy="12826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5400000">
            <a:off x="8246160" y="600300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.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1000"/>
                            </p:stCondLst>
                            <p:childTnLst>
                              <p:par>
                                <p:cTn id="97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3000"/>
                            </p:stCondLst>
                            <p:childTnLst>
                              <p:par>
                                <p:cTn id="9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6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7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8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2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3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4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7200"/>
                            </p:stCondLst>
                            <p:childTnLst>
                              <p:par>
                                <p:cTn id="9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8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9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0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9200"/>
                            </p:stCondLst>
                            <p:childTnLst>
                              <p:par>
                                <p:cTn id="10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4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5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6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11040"/>
                            </p:stCondLst>
                            <p:childTnLst>
                              <p:par>
                                <p:cTn id="10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0" dur="8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1" dur="8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2" dur="8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11760"/>
                            </p:stCondLst>
                            <p:childTnLst>
                              <p:par>
                                <p:cTn id="10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6" dur="8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7" dur="8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8" dur="8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13560"/>
                            </p:stCondLst>
                            <p:childTnLst>
                              <p:par>
                                <p:cTn id="10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2" dur="8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3" dur="8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4" dur="8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16280"/>
                            </p:stCondLst>
                            <p:childTnLst>
                              <p:par>
                                <p:cTn id="10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8" dur="8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9" dur="8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0" dur="8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19080"/>
                            </p:stCondLst>
                            <p:childTnLst>
                              <p:par>
                                <p:cTn id="10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4" dur="8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5" dur="8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6" dur="8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21080"/>
                            </p:stCondLst>
                            <p:childTnLst>
                              <p:par>
                                <p:cTn id="10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0" dur="80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1" dur="80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2" dur="80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23240"/>
                            </p:stCondLst>
                            <p:childTnLst>
                              <p:par>
                                <p:cTn id="10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6" dur="80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7" dur="80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8" dur="80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Степень утраты профессиональной трудоспособност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990099"/>
                </a:solidFill>
                <a:uFillTx/>
                <a:latin typeface="Arial"/>
              </a:rPr>
              <a:t>Степень утраты профессиональной трудоспособности устанавлива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от 10 до 30 % для пострадавшего, который может продолжать профессиональную деятельность с умеренным (незначительным) снижением квалифик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от 40 до 60 % для пострадавшего, который может продолжать профессиональную деятельность с выраженным снижением квалифик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от 70 до 90 % для пострадавшего, который может выполнять работу только в специально созданных услови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100 % для пострадавшего, который не может выполнять любые виды профессиональ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67640" y="304920"/>
            <a:ext cx="1476360" cy="1282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rot="5400000">
            <a:off x="8322120" y="600300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0"/>
                            </p:stCondLst>
                            <p:childTnLst>
                              <p:par>
                                <p:cTn id="6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9000"/>
                            </p:stCondLst>
                            <p:childTnLst>
                              <p:par>
                                <p:cTn id="7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1000"/>
                            </p:stCondLst>
                            <p:childTnLst>
                              <p:par>
                                <p:cTn id="7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Лица, подлежащие обязательному социальному страхованию    от </a:t>
            </a:r>
            <a:br>
              <a:rPr sz="2800"/>
            </a:b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несчастных случаев на производстве </a:t>
            </a:r>
            <a:br>
              <a:rPr sz="2800"/>
            </a:b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и профессиональных заболе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Федеральный закон № 125 установил, что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данному виду социального страхования бы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застрахованными подлежа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физические лица, работающие по трудовому договор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физические лица, работающие по гражданско-правовому договору, если в соответствии с указанным договором страхователь обязан уплачивать страховку страховые взнос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физические лица, осужденные судом к лишению свободы и привлекаемые к труду страховате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704000" y="-14400"/>
            <a:ext cx="1476360" cy="1282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rot="5400000">
            <a:off x="8322120" y="600300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0"/>
                            </p:stCondLst>
                            <p:childTnLst>
                              <p:par>
                                <p:cTn id="9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7000"/>
                            </p:stCondLst>
                            <p:childTnLst>
                              <p:par>
                                <p:cTn id="9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90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Виды обеспечения по социальному страхованию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Обеспечение по страхованию осуществляется в вид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пособия по временной нетрудоспособ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единовременной страховой выпла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ежемесячных страховых выплат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оплаты дополнительных расход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Возмещение застрахованному утраченного заработ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Возмещение застрахованному морального вре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704000" y="-14400"/>
            <a:ext cx="1476360" cy="1282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rot="5400000">
            <a:off x="8322120" y="600300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1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5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7000"/>
                            </p:stCondLst>
                            <p:childTnLst>
                              <p:par>
                                <p:cTn id="13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9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9000"/>
                            </p:stCondLst>
                            <p:childTnLst>
                              <p:par>
                                <p:cTn id="1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3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7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1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5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Права, обязанности и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ответственность страховател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ccff"/>
                </a:solidFill>
                <a:uFillTx/>
                <a:latin typeface="Arial"/>
              </a:rPr>
              <a:t>Страхователь имеет пра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участвовать в установлении ему надбавок к тариф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требовать участия органа исполнительной власти по труду в проверке правильности установления ему надбав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защищать права и интересы свои и застрахованных, в т.ч. в суд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ccff"/>
                </a:solidFill>
                <a:uFillTx/>
                <a:latin typeface="Arial"/>
              </a:rPr>
              <a:t>Страхователь обяза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направлять застрахованного в МСЭК на освидетельство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предоставлять застрахованному, нуждающемуся в лечении, оплачиваемый отпус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обучать застрахованных безопасным методам и приёмам выполнения работы без отрыва от производства за счёт средств страховател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предоставлять застрахованному заверенные копии документов, являющиеся основанием для обеспечения по страхова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cc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предоставлять в МСЭК заключения органа государственной экспертизы условий труда о характере и об условиях труда застрахованны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704000" y="-14400"/>
            <a:ext cx="1476360" cy="1282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rot="5400000">
            <a:off x="8246160" y="600300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8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6000"/>
                            </p:stCondLst>
                            <p:childTnLst>
                              <p:par>
                                <p:cTn id="18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2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8000"/>
                            </p:stCondLst>
                            <p:childTnLst>
                              <p:par>
                                <p:cTn id="18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6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5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9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3" dur="2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7" dur="20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0"/>
                            </p:stCondLst>
                            <p:childTnLst>
                              <p:par>
                                <p:cTn id="20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1" dur="20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Права и обязанности</a:t>
            </a:r>
            <a:br>
              <a:rPr sz="3200"/>
            </a:b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 страховщик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Страховщик имеет пра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аствовать в расследовании страховых случае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правлять застрахованного в МСЭ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верять информацию о страховых случа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танавливать страхователям надбав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щищать права и интересы свои и застрахова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Страховщик обяза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нять решения государственной инспекции труда по вопросам обязательного социального страх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ъяснять застрахованным и страхователям их права и обязан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еспечивать конфиденциальность полученных свед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уществлять своевременное обеспечение по страхов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086600" y="228600"/>
            <a:ext cx="1476360" cy="1282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rot="5400000">
            <a:off x="8246160" y="600300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8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2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500"/>
                            </p:stCondLst>
                            <p:childTnLst>
                              <p:par>
                                <p:cTn id="23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000"/>
                            </p:stCondLst>
                            <p:childTnLst>
                              <p:par>
                                <p:cTn id="2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0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6500"/>
                            </p:stCondLst>
                            <p:childTnLst>
                              <p:par>
                                <p:cTn id="24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4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7000"/>
                            </p:stCondLst>
                            <p:childTnLst>
                              <p:par>
                                <p:cTn id="24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8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7500"/>
                            </p:stCondLst>
                            <p:childTnLst>
                              <p:par>
                                <p:cTn id="2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2" dur="2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9500"/>
                            </p:stCondLst>
                            <p:childTnLst>
                              <p:par>
                                <p:cTn id="2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2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1500"/>
                            </p:stCondLst>
                            <p:childTnLst>
                              <p:par>
                                <p:cTn id="2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20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3500"/>
                            </p:stCondLst>
                            <p:childTnLst>
                              <p:par>
                                <p:cTn id="2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2000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50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2000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Права и обязанности застрахован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00080"/>
                </a:solidFill>
                <a:uFillTx/>
                <a:latin typeface="Arial"/>
              </a:rPr>
              <a:t>Застрахованный имеет прав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Arial"/>
              </a:rPr>
              <a:t>обращаться самостоятельно в учреждения государственной системы здравоохранения по вопросам освидетельствования (переосвидетельствован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Arial"/>
              </a:rPr>
              <a:t>обращаться в профессиональные и иные представительные органы по вопросам обязательного социального страх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Arial"/>
              </a:rPr>
              <a:t>получать от страхователя и страховщика бесплатную информацию о своих правах и обязанност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Arial"/>
              </a:rPr>
              <a:t>    </a:t>
            </a:r>
            <a:r>
              <a:rPr b="0" lang="ru-RU" sz="1800" spc="-1" strike="noStrike" u="sng">
                <a:solidFill>
                  <a:srgbClr val="800080"/>
                </a:solidFill>
                <a:uFillTx/>
                <a:latin typeface="Arial"/>
              </a:rPr>
              <a:t>Застрахованный обяза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Arial"/>
              </a:rPr>
              <a:t>соблюдать</a:t>
            </a:r>
            <a:r>
              <a:rPr b="0" i="1" lang="ru-RU" sz="1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800080"/>
                </a:solidFill>
                <a:latin typeface="Arial"/>
              </a:rPr>
              <a:t>правила по охране труда и инструкции по охране тру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Arial"/>
              </a:rPr>
              <a:t>извещать страховщика об изменении места своего жительства (работы), а также о наступлении обстоятельств, влекущих изменение размера получаемого им обеспечения по страхованию или утрату права на получение обеспечения по страхованию, в 10–дневный ср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Arial"/>
              </a:rPr>
              <a:t>выполнять предусмотренные заключениями МСЭК рекомендации по социальной, медицинской и профессиональной реабилитации, своевременно проходить переосвидетельствования в установленные МСЭК сро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5400000">
            <a:off x="8322120" y="600300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Основные  обязанности  </a:t>
            </a:r>
            <a:br>
              <a:rPr sz="2800"/>
            </a:b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работодателя  и работников  при  несчастном  случае  на  производстве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немедленно  организовать  первичную помощь  пострадавшем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принять неотложные  меры  по  предотвращению  развития  аварийной  ситу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сохранить  до  начала  расследования  несчастного случая  на  производстве обстанов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обеспечить своевременное  расследование  несчастного  случа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немедленно  проинформировать  о несчастном  случае  на  производстве  родственников  пострадавшего,  а  также  направить сообщение  в  органы  и организации,  определенные Трудовым  кодексом, «Положением…»   и иными  нормативными правовыми ак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704000" y="-14400"/>
            <a:ext cx="1476360" cy="12826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rot="5400000">
            <a:off x="8322120" y="600300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9000"/>
                            </p:stCondLst>
                            <p:childTnLst>
                              <p:par>
                                <p:cTn id="30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Arial"/>
              </a:rPr>
              <a:t>Порядок  сообщения  работодателем  о  групповом  несчастном  случае,  </a:t>
            </a:r>
            <a:br>
              <a:rPr sz="2800"/>
            </a:br>
            <a:r>
              <a:rPr b="1" lang="en-US" sz="2800" spc="-1" strike="noStrike">
                <a:solidFill>
                  <a:srgbClr val="0099ff"/>
                </a:solidFill>
                <a:latin typeface="Arial"/>
              </a:rPr>
              <a:t>тяжёлом  несчастном  случае  со  смертельным  исходом  на   производст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cc99"/>
                </a:solidFill>
                <a:uFillTx/>
                <a:latin typeface="Arial"/>
              </a:rPr>
              <a:t>Работодатель в  течение  суток  обязан  сообщить  соответственн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о  несчастном  случае,  происшедшем  в  организ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в  соответствующую  государственную  инспекцию  тру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в  прокуратуру  по  месту  происшествия  несчастного  случ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в  федеральный  орган  исполнительной  власти  по   ведомственной  принадлеж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в  орган  исполнительской  власти  субъекта  Российской  Федер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в  организацию,  направившую  работника,  с  которым   произошел  несчастный  случ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в  территориальные  объединения организаций  профсоюз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в  территориальный  орган  государственного  надзора,  если  несчастный  случай  произошел  в  организации  или  на  объекте,  подконтрольном этому  орган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страховщику  по  вопросам  обязательного  социального  страхования  от  несчастных  случаев  на  производстве  и  профессиональных  заболев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704000" y="-14400"/>
            <a:ext cx="1476360" cy="12826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rot="5400000">
            <a:off x="8322120" y="600300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77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6" dur="770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8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0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0"/>
                            </p:stCondLst>
                            <p:childTnLst>
                              <p:par>
                                <p:cTn id="35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7000"/>
                            </p:stCondLst>
                            <p:childTnLst>
                              <p:par>
                                <p:cTn id="35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9000"/>
                            </p:stCondLst>
                            <p:childTnLst>
                              <p:par>
                                <p:cTn id="36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7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8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7000"/>
                            </p:stCondLst>
                            <p:childTnLst>
                              <p:par>
                                <p:cTn id="38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9000"/>
                            </p:stCondLst>
                            <p:childTnLst>
                              <p:par>
                                <p:cTn id="39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1000"/>
                            </p:stCondLst>
                            <p:childTnLst>
                              <p:par>
                                <p:cTn id="39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udent</cp:lastModifiedBy>
  <dcterms:modified xsi:type="dcterms:W3CDTF">2006-08-21T09:59:53Z</dcterms:modified>
  <cp:revision>1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